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5.xml"/><Relationship Id="rId3" Type="http://schemas.openxmlformats.org/officeDocument/2006/relationships/slide" Target="slide25.xml"/><Relationship Id="rId4" Type="http://schemas.openxmlformats.org/officeDocument/2006/relationships/slide" Target="slide35.xml"/><Relationship Id="rId5" Type="http://schemas.openxmlformats.org/officeDocument/2006/relationships/slide" Target="slide45.xml"/><Relationship Id="rId6" Type="http://schemas.openxmlformats.org/officeDocument/2006/relationships/slide" Target="slide55.xml"/><Relationship Id="rId7" Type="http://schemas.openxmlformats.org/officeDocument/2006/relationships/slide" Target="slide7.xml"/><Relationship Id="rId8" Type="http://schemas.openxmlformats.org/officeDocument/2006/relationships/slide" Target="slide17.xml"/><Relationship Id="rId9" Type="http://schemas.openxmlformats.org/officeDocument/2006/relationships/slide" Target="slide27.xml"/><Relationship Id="rId10" Type="http://schemas.openxmlformats.org/officeDocument/2006/relationships/slide" Target="slide37.xml"/><Relationship Id="rId11" Type="http://schemas.openxmlformats.org/officeDocument/2006/relationships/slide" Target="slide47.xml"/><Relationship Id="rId12" Type="http://schemas.openxmlformats.org/officeDocument/2006/relationships/slide" Target="slide57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9.xml"/><Relationship Id="rId16" Type="http://schemas.openxmlformats.org/officeDocument/2006/relationships/slide" Target="slide39.xml"/><Relationship Id="rId17" Type="http://schemas.openxmlformats.org/officeDocument/2006/relationships/slide" Target="slide49.xml"/><Relationship Id="rId18" Type="http://schemas.openxmlformats.org/officeDocument/2006/relationships/slide" Target="slide59.xml"/><Relationship Id="rId19" Type="http://schemas.openxmlformats.org/officeDocument/2006/relationships/slide" Target="slide11.xml"/><Relationship Id="rId20" Type="http://schemas.openxmlformats.org/officeDocument/2006/relationships/slide" Target="slide21.xml"/><Relationship Id="rId21" Type="http://schemas.openxmlformats.org/officeDocument/2006/relationships/slide" Target="slide31.xml"/><Relationship Id="rId22" Type="http://schemas.openxmlformats.org/officeDocument/2006/relationships/slide" Target="slide41.xml"/><Relationship Id="rId23" Type="http://schemas.openxmlformats.org/officeDocument/2006/relationships/slide" Target="slide51.xml"/><Relationship Id="rId24" Type="http://schemas.openxmlformats.org/officeDocument/2006/relationships/slide" Target="slide61.xml"/><Relationship Id="rId25" Type="http://schemas.openxmlformats.org/officeDocument/2006/relationships/slide" Target="slide13.xml"/><Relationship Id="rId26" Type="http://schemas.openxmlformats.org/officeDocument/2006/relationships/slide" Target="slide23.xml"/><Relationship Id="rId27" Type="http://schemas.openxmlformats.org/officeDocument/2006/relationships/slide" Target="slide33.xml"/><Relationship Id="rId28" Type="http://schemas.openxmlformats.org/officeDocument/2006/relationships/slide" Target="slide43.xml"/><Relationship Id="rId29" Type="http://schemas.openxmlformats.org/officeDocument/2006/relationships/slide" Target="slide53.xml"/><Relationship Id="rId30" Type="http://schemas.openxmlformats.org/officeDocument/2006/relationships/slide" Target="slide63.xml"/><Relationship Id="rId3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eopard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ond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Ionic Bond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NaC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onic Bond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name of this compound, Ca(N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Ionic Bond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lcium Nitr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onic Bond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y do ionic bonds conduct electricity in solution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Ionic Bond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onic bonds have charged ions and in solution the charged ions allow for the transfer of electricity through the solu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valent Bond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happens to the electrons in a covalent bo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Covalent Bond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electrons are share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valent Bond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chemical formula for dihydrogen monoxid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Covalent Bond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valent Bond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ich one of the following compounds is a polar covalent bo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CaBr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I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C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.  H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52280" y="114480"/>
          <a:ext cx="12698280" cy="9524880"/>
        </p:xfrm>
        <a:graphic>
          <a:graphicData uri="http://schemas.openxmlformats.org/drawingml/2006/table">
            <a:tbl>
              <a:tblPr/>
              <a:tblGrid>
                <a:gridCol w="2116080"/>
                <a:gridCol w="2116440"/>
                <a:gridCol w="2116440"/>
                <a:gridCol w="2116800"/>
                <a:gridCol w="2116440"/>
                <a:gridCol w="2116080"/>
              </a:tblGrid>
              <a:tr h="1747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Ionic Bon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valent Bon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Nam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riting Formul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ypes of Reac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redicting Product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3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4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5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6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7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8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0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1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2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3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4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5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6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7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8" action="ppaction://hlinksldjump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19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0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1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2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3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4" action="ppaction://hlinksldjump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5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6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7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8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29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9999"/>
                          </a:solidFill>
                          <a:uFillTx/>
                          <a:latin typeface="Gill Sans"/>
                          <a:ea typeface="ヒラギノ角ゴ ProN W3"/>
                          <a:hlinkClick r:id="rId30" action="ppaction://hlinksldjump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Covalent Bond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.  HF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valent Bond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are the diatomic molecule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Covalent Bond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N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F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Cl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Br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I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valent Bond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different between a polar covalent bond and a nonpolar covalent bo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Covalent Bond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polar bond has an uneven sharing of electrons which creates a slight positive and negative charge in a compound.  A nonpolar bond has an even sharing of electro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y do we use greek prefixes when naming covalent compound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Nam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re are no charges to figure out the formula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y do we use Roman Numerals when naming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Nam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73280" indent="-496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e use Roman Numerals to naming ionic compounds with the transition metals because the transition metals have multiple oxidation states (charges).  The Roman Numeral signifies the charge of the transition met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732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73280" indent="-4968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name of this compound, BF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6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inal Jeopard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rite, Balance, and Name the equation for the reaction of ammonium sulfide and aluminum nitrat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Nam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oron Hexafluorid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name of this compound, (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Naming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mmonium Ox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Nam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name of this compound, Fe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S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Naming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ron (III) Sulf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riting Formula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formula for Potassium Sulfid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Writing Formula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riting Formula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formula for carbon monoxid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Writing Formula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riting Formula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formula for dinitrogen pentoxid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Final Jeopard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3(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 + 2Al(N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--&gt; 6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+ Al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luminum Sulfide reacts with Aluminum Nitrate to form Aluminum Nitrate and Aluminum Sulfid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Writing Formula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riting Formula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formula for zinc (II) chlorid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Writing Formula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ZnCl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riting Formula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formula for Tin (IV) Phosphat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Writing Formula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n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Reaction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type of reaction is the Haber Process (N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+ 3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--&gt; 2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Types of Reaction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ynthe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Reaction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are the products of a combustion reaction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Types of Reaction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 and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Reaction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alance this Double Replacement Equa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 + C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--&gt; CaO + N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onic Bond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happens to electrons in an ionic bo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Types of Reaction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3N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 + C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---&gt; 3CaO + 2Na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Reaction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type of reaction is this reaction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CO3 ---&gt;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+ Ca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Types of Reaction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composi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ypes of Reaction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activity series used for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Types of Reaction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ngle Replacement Reactions, the metal that is replacing the metal in the compound must have a higher activity for the reaction to occu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dicting Product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ydrogen gas and Chloride gas react to form _____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Predicting Products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ydrogen gas and Chloride gas react to form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Hydrogen Chlori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dicting Product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dium Chloride and Potassium Bromide react to form _____ and _____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Predicting Products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odium Chloride and Potassium Bromide react to form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Sodium Bromi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Potassium Chlorid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dicting Product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edict the products and balanc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 + KC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Ionic Bonding 2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electrons are transfere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Predicting Products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 + 2KCl ---&gt; 2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 + K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dicting Product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edict the products and write the balanced equation for the reaction of Calcium Hydroxide reaction with Sodium Iodid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Predicting Products 8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(OH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+ 2NaI ---&gt; 2NaOH + CaI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edicting Product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rite the names and predict the products of this reactio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eI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+ Au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P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)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Predicting Products 10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ron (III) Iodide reacts with Gold (II) Phospate to product Iron (III) Phosphate and Gold (II) Iodi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Gill Sans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onic Bond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types of elements form an ionic bon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90b00"/>
                </a:solidFill>
                <a:latin typeface="Gill Sans"/>
              </a:rPr>
              <a:t>Ionic Bonding 4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metal and a nonmet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Bo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onic Bonding 60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ich one of the following is an ionic bon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.  CO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.  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.  NaC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.  NH</a:t>
            </a:r>
            <a:r>
              <a:rPr b="0" lang="en-US" sz="4200" spc="-1" strike="noStrike" baseline="-6000">
                <a:solidFill>
                  <a:srgbClr val="000000"/>
                </a:solidFill>
                <a:latin typeface="Gill Sans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